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FD6CF2-305A-4E09-B398-ED8869D35DB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2B2A5E-B1CC-4CA7-B8A8-5FDC5C943B6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6FABF4-92E7-4872-9A19-3F82D69A428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2CE99B-4402-441F-A593-B3B74126E79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30F9D8-170E-4FE8-85DF-25B120472C6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9782EF-816C-4005-9272-53CD855CA7F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79E89-DB8A-4211-8451-FD71B692925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2D4984-7BFE-44F9-9B5D-4FD41471F86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AC23B-8291-44F7-BA62-2F4AB04872B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F73E6D-1B81-4A16-BE4E-493D46146E6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06AFA9-3DBA-49CB-90CB-FBC2464B022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E4CD1D-ED13-4342-8764-1AF01BE4296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8BCF-EBC9-425C-AABE-00855A61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8DC7-5101-4298-ACE0-B53F014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F606-9A8F-4BA2-B826-1188A5A7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44F1-7416-46C8-9353-52D558DC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FB0-A6CA-4A41-A808-C141A935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5CDB-CBA4-440C-985E-9A68D01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7891-8118-4602-BCCB-45983ED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3694-0088-4B80-85ED-00C4A128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90C-B01A-4DD3-A44E-21B8F65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ADBA-9FAB-42CA-89D5-95BC2204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D07B-85E8-4D03-9203-1DEFF70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CC0D-8BAE-4F53-A500-91F07B6B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537F-A5EE-4923-8AEE-2720DF5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E9D6-D43D-41E3-BCB8-CEDEFAD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37DF-8FD6-4DC6-A5D0-25DA4DBE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0ED-06DA-445D-8B3D-BD1FA119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5FD1-221A-4BAB-9BF3-A17A3C7B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06CB-02E2-46F9-A319-9AFAF98B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B341-941F-4321-A376-021A5E74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D974-6C77-44C5-9473-7A5C595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8EC6-2B2E-47EF-9C87-999011A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5A76-45EE-4909-BD10-44E2824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6303-D140-4690-B9A9-2BC7051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33AC-7A08-4912-8AD4-7D12A7D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01EC-B4E3-47F8-B5FB-70E1CB63658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c302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6AE-D8A4-4E6F-BB83-FFE0523FDC2E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migrationfrancophone.ca/" TargetMode="External"/><Relationship Id="rId2" Type="http://schemas.openxmlformats.org/officeDocument/2006/relationships/hyperlink" Target="http://www.immigrationfrancophone.ca/" TargetMode="External"/><Relationship Id="rId3" Type="http://schemas.openxmlformats.org/officeDocument/2006/relationships/hyperlink" Target="http://www.immigrationfrancophone.ca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trée express – en attente d’une lentille franc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lloque de perfectionnement professionnel d’OCASI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arjie Brown, gestionnaire – Immigration, FC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oronto, 3 novembr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cfa"/>
          <p:cNvPicPr/>
          <p:nvPr/>
        </p:nvPicPr>
        <p:blipFill>
          <a:blip r:embed="rId1"/>
          <a:stretch/>
        </p:blipFill>
        <p:spPr>
          <a:xfrm>
            <a:off x="3132000" y="115920"/>
            <a:ext cx="1241640" cy="151128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77CD-5CD3-4A6D-9369-EF393E93E244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ien n’indique qu’Entrée express pourrait êtr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lution pour les communautés francophones et acadien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’agit plutôt d’un outil conçu pour la majorité, qui ne répond pas aux réalités spécifiques de la minor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besoins en matière d’immigration francophone demeurent urgents et cri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uvelles occasions à saisir avec les gouvernements fédéral, provinciaux et territor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on, action, action…en collaboration avec tous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D2BA-7F4E-4E35-9FED-67CACA4803B3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86040" y="1828800"/>
            <a:ext cx="620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Questions -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427280" y="4292640"/>
            <a:ext cx="4716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m.brown@fcfa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2"/>
              </a:rPr>
              <a:t>www.immigrationfrancophone.ca</a:t>
            </a: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www.facebook.com/immfrancopho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@FCFA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mage Preview"/>
          <p:cNvPicPr/>
          <p:nvPr/>
        </p:nvPicPr>
        <p:blipFill>
          <a:blip r:embed="rId4"/>
          <a:stretch/>
        </p:blipFill>
        <p:spPr>
          <a:xfrm>
            <a:off x="3708360" y="5084640"/>
            <a:ext cx="515880" cy="5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mage Preview"/>
          <p:cNvPicPr/>
          <p:nvPr/>
        </p:nvPicPr>
        <p:blipFill>
          <a:blip r:embed="rId5"/>
          <a:stretch/>
        </p:blipFill>
        <p:spPr>
          <a:xfrm>
            <a:off x="3780000" y="5732640"/>
            <a:ext cx="458640" cy="4507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656F-BCCF-47D8-8F2C-32AFB920767D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6"/>
          <p:cNvSpPr/>
          <p:nvPr/>
        </p:nvSpPr>
        <p:spPr>
          <a:xfrm>
            <a:off x="0" y="4292640"/>
            <a:ext cx="4356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or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ortail de l’immigration franc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texte 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62828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mmigration francophone – un enjeu prioritaire pour les communautés francophones et acadien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Moteur de la croissance démograph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util de développ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Francophonie diversifiée et inclu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Or, les communautés ne reçoivent pas leur juste part d’immig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lus de 98 % d’immigrants d’expression anglaise comparativement à moins de 2 % d’immigrants d’expression frança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E40-D039-4C1F-BD8F-F905C8A5353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bjectifs de la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Loi sur l’immigration et la protection des réfugié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(2002), article 3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) D’enrichir et de renforcer le tissu social et culturel du Canada dans le respect de son caractère fédéral, bilingue et multicultur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.1) de favoriser le développement des collectivités de langues officielles minoritaires au Ca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remier objectif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Cadr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2003) et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Plan stratégique pour favoriser l’immigration au sein des communautés francophones en situation minoritaire (2006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Accroître le nombre d’immigrants francophones pour atteindre une cible annuelle d’au moins 4,4 % d’immigrants d’expression française d’ici 20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7c302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784C-0BAD-46AF-9A89-346725C24E6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70028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Selon l’article 41 de la </a:t>
            </a:r>
            <a:r>
              <a:rPr b="0" i="1" lang="fr-CA" sz="2600" spc="-1" strike="noStrike">
                <a:solidFill>
                  <a:srgbClr val="000000"/>
                </a:solidFill>
                <a:latin typeface="Arial"/>
              </a:rPr>
              <a:t>Loi sur les langues officielle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 gouvernement fédéral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s’engage à favoriser l’épanouissement des minorités francophones et anglophones du Canada et à appuyer leur développ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, ainsi qu’à promouvoir la pleine reconnaissance et l’usage du français et de l’anglais dans la société canadien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Il incombe aux institutions fédérales de veiller à ce que soient prises des mesures positives pour mettre en œuvre cet engag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 Il demeure entendu que cette mise en œuvre se fait dans le respect des champs de compétence et des pouvoirs des provi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F3D-0489-4B34-9AB4-1ECD390A3881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916280"/>
          <a:ext cx="8136000" cy="47005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francophones vs tous les 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5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56772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78D-01B9-4A4D-AECA-E80411ABF7CA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économique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844640"/>
          <a:ext cx="8136000" cy="45799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économiques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économiques francophones vs tous les RP é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4024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B38-CFAA-4A3C-AAB2-3ACB1971D74D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Éléments contextuel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Élimination du financement fédéral qui permettait aux communautés de faire la promotion et du recrutement dans le cadre de Destination Canada (201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Abolition du programme Avantage significatif francophone, le seul incitatif pour les employeurs en termes de recrutement de travailleurs francophones à l’étranger (septembre 2014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Engagements de CIC qu’Entrée express deviendra un outil par excellence pour augmenter l’immigration francophone (depuis 201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CB6C-135F-4E8F-A21B-FF725375771B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rincipales préoccupations soulevées par la FCF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a capacité des francophones à s’inscrire dans le bassin d’Entrée expres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’absence de mesures pour inciter des employeurs à faire des offres d’emploi à des immigrants francophon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omment veiller à ce que des candidats francophones dans le bassin soient invités à soumettre une demande de résidence permane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DCC1-05E6-4A7E-B01E-38AD4F810BA1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sta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puis trois ans, la FCFA demande qu’une lentille francophone soit intégrée au système, et de pouvoir collaborer avec le ministère pour l’élaboration de celle-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Entrée express a été lancé en janvier 2015 sans lentille francoph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ne comporte toujours pas à ce jour de mécanisme pour identifier si un candidat est francophone ou n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3CF2-6F35-4895-8140-3CE0A426D374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5:42:37Z</dcterms:created>
  <dc:creator>s.quinty</dc:creator>
  <dc:description/>
  <dc:language>en-US</dc:language>
  <cp:lastModifiedBy>Marjie Brown</cp:lastModifiedBy>
  <cp:lastPrinted>2013-04-23T13:36:52Z</cp:lastPrinted>
  <dcterms:modified xsi:type="dcterms:W3CDTF">2015-11-02T14:51:05Z</dcterms:modified>
  <cp:revision>527</cp:revision>
  <dc:subject/>
  <dc:title>Diapositive 1</dc:title>
</cp:coreProperties>
</file>